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AE0-090E-4D88-8688-A4B69526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CF4-DF92-4B7B-84B7-DE400437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158-EEA3-4E19-9A81-28AD3364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AEA-6326-4594-A491-B7AD9C74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EAE-A7CA-4E32-BBB8-3D7CE9AB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CC8-05F1-4333-A212-E8C58DE8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343-187E-4C86-82B6-D77AAA6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9C7-7F4C-461C-BAFC-7E366D9C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F45-63D3-4230-A7D1-75E270BA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D8D-B45D-4420-BBE2-C28FAAC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787-A72B-48A2-92E1-141A320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051-96B9-427E-92D9-733283C0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5F81-F387-40E9-B9B3-21282961D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oad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684036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Signs for traf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528920"/>
            <a:ext cx="75405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 carefu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3247920" cy="2685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 the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249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</a:rPr>
              <a:t>Be careful! Childr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haroni"/>
              </a:rPr>
              <a:t>Cross the ro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902160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775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Don’t drive fa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6591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gLiU_HKSCS-ExtB"/>
              </a:rPr>
              <a:t>Help the disabl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</a:rPr>
              <a:t>STOP!!!!!!!!!!!!!!!!!!!!!!!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640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UPC"/>
              </a:rPr>
              <a:t>Move safely!!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Turn right!!!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7040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2:14:25Z</dcterms:created>
  <dc:creator>user</dc:creator>
  <dc:description/>
  <dc:language>en-US</dc:language>
  <cp:lastModifiedBy>user</cp:lastModifiedBy>
  <dcterms:modified xsi:type="dcterms:W3CDTF">2013-04-09T12:37:22Z</dcterms:modified>
  <cp:revision>2</cp:revision>
  <dc:subject/>
  <dc:title>Road safety</dc:title>
</cp:coreProperties>
</file>